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39E9-9384-49D5-BFF4-9350934A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EFE9-07EA-4F22-AB6D-2FE12A8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5AF4-8D99-49DE-906A-76F4369F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FDD5-F4D0-42AF-ABE2-02D94E24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454-73AF-428F-979D-86116171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D44B-4AD3-42A9-8936-7E9AD15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F11-5D9C-487E-B7BD-611BC2B4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7606-8E06-4BAA-B0C8-E8E8693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673A-E9B3-48FC-8B9F-530E6AFF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0307-4D23-4122-A569-24CEEBE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2611-86F3-4D02-943A-7862095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4C30-F131-4C5E-8482-AB4628E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62E7-0F21-4AD3-86BA-013FFBC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68D6-AA05-4343-8AC2-D57078E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E9F-3DC8-42DD-ADDB-5FB9C986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2660-5037-4376-B65C-C71F2A54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2C9-B59E-4E2B-B4CD-F6F239DA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FE2E-136C-4C62-9366-FE1E393E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A5AA-040D-48E5-9540-76481CAD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EB14-9A9D-4A59-AEE9-EDEF16CE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E881-B799-4106-8A48-342CEDF6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20F9-7633-445B-84A5-68D75609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70E4-3449-48D9-B0BB-1E6CAF65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E38C-086F-45E7-B068-DE18790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ADD-50DD-4830-9479-D1A33DBA42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911-A3DF-4044-B54D-A680B4C9AC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Распутайте кл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2268360" y="1484280"/>
            <a:ext cx="719280" cy="719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76720" y="1628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4067280" y="1484280"/>
            <a:ext cx="71892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076720" y="16286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5867280" y="1413000"/>
            <a:ext cx="720720" cy="685800"/>
          </a:xfrm>
          <a:prstGeom prst="pentag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2268360" y="2349360"/>
            <a:ext cx="721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348000" y="2492280"/>
            <a:ext cx="33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298400" y="2365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115960" y="2346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940360" y="2349360"/>
            <a:ext cx="576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65920" y="3301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53040" y="33782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298400" y="32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115960" y="328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5796000" y="3284640"/>
            <a:ext cx="792000" cy="6858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2195640" y="4076640"/>
            <a:ext cx="647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336120" y="4146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237560" y="414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115960" y="421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579600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27"/>
          <p:cNvSpPr/>
          <p:nvPr/>
        </p:nvSpPr>
        <p:spPr>
          <a:xfrm>
            <a:off x="2124000" y="5013360"/>
            <a:ext cx="79236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3387240" y="5154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29"/>
          <p:cNvSpPr/>
          <p:nvPr/>
        </p:nvSpPr>
        <p:spPr>
          <a:xfrm>
            <a:off x="4067280" y="5013360"/>
            <a:ext cx="720720" cy="6476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5042880" y="508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5762520" y="503064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следовательская работа по теме: «Сравнение фигур, их периметров и площа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2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176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6"/>
          <p:cNvSpPr/>
          <p:nvPr/>
        </p:nvSpPr>
        <p:spPr>
          <a:xfrm>
            <a:off x="638280" y="466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87720" y="28684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151360" y="49561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6596280" y="2565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383360" y="53164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6596280" y="4724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8128080" y="5892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Для того, чтобы покрасить кубик, изображенный на левом рисунке, понадобится 9 кг краски. Сколько краски потребуется, чтобы покрасить фигуру, изображенную на прав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куб"/>
          <p:cNvPicPr/>
          <p:nvPr/>
        </p:nvPicPr>
        <p:blipFill>
          <a:blip r:embed="rId1"/>
          <a:stretch/>
        </p:blipFill>
        <p:spPr>
          <a:xfrm>
            <a:off x="1187280" y="2708280"/>
            <a:ext cx="6912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3399"/>
                </a:solidFill>
                <a:latin typeface="Arial"/>
              </a:rPr>
              <a:t>Тема урока: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770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66"/>
                </a:solidFill>
                <a:latin typeface="Arial"/>
              </a:rPr>
              <a:t>Прямоугольник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Найти площади изображен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елка2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числи недостающую велич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1584360"/>
                <a:gridCol w="1584360"/>
                <a:gridCol w="1727280"/>
                <a:gridCol w="14508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21:53:37Z</dcterms:created>
  <dc:creator>Колыхалова Н.Н.</dc:creator>
  <dc:description/>
  <dc:language>en-US</dc:language>
  <cp:lastModifiedBy>учитель</cp:lastModifiedBy>
  <dcterms:modified xsi:type="dcterms:W3CDTF">2013-10-21T05:36:47Z</dcterms:modified>
  <cp:revision>6</cp:revision>
  <dc:subject/>
  <dc:title>Тема урока</dc:title>
</cp:coreProperties>
</file>